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5DC-89B9-45B3-8B8C-83E96ABF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E75-FD77-459F-8F9E-CCD80E3B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963-DD12-4298-B758-88317976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42E-EC47-412A-AF2D-03DD61AD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B08F-2191-470E-AC35-D87EE7B0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5AD2-9240-41F3-BD82-3C938C48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74D2-8398-4FA2-9DA1-DFB6818F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C677-E4A9-401E-BBC4-366EAFDF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B6F5-A368-411B-93AB-110A8F83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8615-8EE9-48DF-85F7-6AA47E8E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9E3F-2571-4CAF-B934-984D46DC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0FB-A785-463C-90F9-A93D03AE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B9E5-7CB8-4CE3-BB05-DD5D5497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8E46-D0C8-448E-A481-F34EBCE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3127-EB76-4289-BBB3-81F3374F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DD6-3972-41AC-B4E0-782AC455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70F-A38A-4FD0-8AA1-32E8BE20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6853-9461-4A18-9C37-09CDADFB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13D8E-D716-4BAE-942A-87C1BD9E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5E6A-B4CD-4914-932F-F507055E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6064-B3CF-424B-A74A-0FFC2065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3515-5FD2-4529-B77C-FB7ECAB4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9B9-520F-4EC7-9B9B-F088849A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D0C8-4DA2-4FF6-9E4D-40AD7900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D401-17BB-41E3-9911-82A4FE21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5155-5673-4EB0-A4E8-62891B3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C3A09-AD3A-47D5-BDC8-FEED6FAD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5816-5638-4F45-914B-5551F2B8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DDBE-C48A-4800-B1EE-E4370C27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CA93-D264-45F2-8E25-6A2E2D49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4FDD-BE27-4186-A819-3A2C9E3C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F691-64F3-4AC7-BB09-6B47DF49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6812-9E5C-4CC2-BBB2-25AB7C25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033-20F5-4CA6-AB35-8E52658E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3709-4A42-4CA0-8C09-9C1A40AA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88FF4-866E-4CF3-BD81-F9A3020B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9D22-A178-418B-98D0-B28C19F0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DD34-2A67-4C31-B6FC-B25F103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EEF8-9A5C-4177-8529-CCE6294B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752C-B612-4E84-A973-81A90452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F7CB-3F3E-4C87-87A0-FCF22C87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5784-CD0B-485F-A755-7FC312B6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092B-13C0-45DB-A16F-21233F27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C23-D4C7-479F-B0FC-0036C2A6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D2C-7CB0-4D62-BBBE-0380E05A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84C-BAF1-49F1-AE92-327A53B5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46A-1180-4922-98C9-253CA7B0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133-3D4A-4F4E-B4B8-11E4426B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7D1-5490-48A6-9D06-8A5082C4AF3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2EF8-89E4-4578-8A05-F9A56239608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710-E290-49AD-B3E2-F85125CAB3A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D986-C3DA-4998-BB47-B51AE0CF1A8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2"/>
          <a:stretch/>
        </p:blipFill>
        <p:spPr>
          <a:xfrm>
            <a:off x="457200" y="1901880"/>
            <a:ext cx="7954920" cy="17794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2357280" y="3429000"/>
            <a:ext cx="62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24000" y="605160"/>
            <a:ext cx="8569080" cy="57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 как элемент цеп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 является индуктивным элементом, состоящим по меньшей мере из двух обмоток, предназначенных для передачи энер­гии из первичной обмотки во вторичную. В электронных устройст­вах трансформатор чаще всего служит для повышения или пониже­ния напряжения (в выпрямителях в устройствах питания), а также для согласования нагрузки, подключенной ко вторичной обмотке трансформатора, сопротивлением источника, подключенного к пер­вичной обмотке. Часто трансформаторы используют в качестве элементов связи в усилителях. Мощности используемых в электронных устройствах трансфор­маторов редко превышают 100 Вт. От­ношение числа витков вторичной об­мотк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п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Arial Narrow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числу витков первично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передаточным отношением р или коэффициентом трансформации К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атора. Для идеального тран­сформатора, т. с. трансформатора без потерь, имеем следующие соотношения (рис. 2.11)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точное отношение р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емая мощность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=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pU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468360" y="260280"/>
          <a:ext cx="8207280" cy="61214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6121440">
                <a:tc>
                  <a:txBody>
                    <a:bodyPr lIns="111600" rIns="111600" tIns="128160" bIns="12816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    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. 2 11. Трансформатор, нагруженный на сопроти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111600" marR="111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pic>
        <p:nvPicPr>
          <p:cNvPr id="232" name="Рисунок 1" descr=""/>
          <p:cNvPicPr/>
          <p:nvPr/>
        </p:nvPicPr>
        <p:blipFill>
          <a:blip r:embed="rId2"/>
          <a:stretch/>
        </p:blipFill>
        <p:spPr>
          <a:xfrm>
            <a:off x="684360" y="1684440"/>
            <a:ext cx="3816360" cy="4192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" descr=""/>
          <p:cNvPicPr/>
          <p:nvPr/>
        </p:nvPicPr>
        <p:blipFill>
          <a:blip r:embed="rId3"/>
          <a:stretch/>
        </p:blipFill>
        <p:spPr>
          <a:xfrm>
            <a:off x="4500720" y="1684440"/>
            <a:ext cx="36716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547640" y="1052640"/>
            <a:ext cx="604872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сопротивления нагруз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сопротивлением источник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вает в том случае, когда сопротивлен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иди­мое» со стороны источника или пересчитанное на первичную обмот­ку трансформатора и зависящее от передаточного отношения транс­форматора, равно сопротивлению источ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еобразователи встречаются в электронных устройствах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много видов преобразователей. Их задача — преоб­разование энергии одного вида в другой. Электроакустические пре­образователи (рис. 2.12) преобразуют акустическую энергию, наприм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"/>
          <p:cNvPicPr/>
          <p:nvPr/>
        </p:nvPicPr>
        <p:blipFill>
          <a:blip r:embed="rId2"/>
          <a:stretch/>
        </p:blipFill>
        <p:spPr>
          <a:xfrm>
            <a:off x="3059280" y="549360"/>
            <a:ext cx="2997000" cy="13698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" descr=""/>
          <p:cNvPicPr/>
          <p:nvPr/>
        </p:nvPicPr>
        <p:blipFill>
          <a:blip r:embed="rId3"/>
          <a:stretch/>
        </p:blipFill>
        <p:spPr>
          <a:xfrm>
            <a:off x="3059280" y="1919160"/>
            <a:ext cx="2997000" cy="12733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" descr=""/>
          <p:cNvPicPr/>
          <p:nvPr/>
        </p:nvPicPr>
        <p:blipFill>
          <a:blip r:embed="rId4"/>
          <a:stretch/>
        </p:blipFill>
        <p:spPr>
          <a:xfrm>
            <a:off x="3059280" y="3192480"/>
            <a:ext cx="2997000" cy="11746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"/>
          <p:cNvSpPr/>
          <p:nvPr/>
        </p:nvSpPr>
        <p:spPr>
          <a:xfrm>
            <a:off x="1547640" y="865080"/>
            <a:ext cx="47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1258920" y="5013360"/>
            <a:ext cx="69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12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ическое изображение электроакустиче­ских преобразователей микрофона (а), громкоговорителя (б) и наушников (в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922320" y="765000"/>
            <a:ext cx="712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 или музыки, в электрическую или наоборот. В первом слу­чае это микрофоны, во втором — громкоговорители и телефоны. Су­ществуют также преобразователи, обеспечивающие возможность за­писи звуковых сигналов и изображений, в том числе на магнитной ленте, на пластинке (записывающие головки), а также преобразова­тели для воспроизведении записанного звука и изображения, на­пример в электропроигрывателях, магнитофонах, видеомагнито­фона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левидении используют преобразователи, которые преобра­зуют в передающей камере (передающие электронно-лучевые трубки) оптическое (световое) изображение и электрический сигнал, а также в приемнике (кинескопы приемные трубки) электрически» сиг­нал в световое изображе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принципе работает микрофон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висит от типа микрофона, но в общем случае можно ска­зать, что преобразование энергии звука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031760" y="404640"/>
            <a:ext cx="7000920" cy="403236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"/>
          <p:cNvSpPr/>
          <p:nvPr/>
        </p:nvSpPr>
        <p:spPr>
          <a:xfrm>
            <a:off x="826920" y="4805280"/>
            <a:ext cx="728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13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ощенная  кон­струкция динамического ми­крофона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— колеблющаяся мембрана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итки катушк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— по­стоянный магни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2"/>
          <a:stretch/>
        </p:blipFill>
        <p:spPr>
          <a:xfrm>
            <a:off x="941400" y="260280"/>
            <a:ext cx="7129440" cy="43880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"/>
          <p:cNvSpPr/>
          <p:nvPr/>
        </p:nvSpPr>
        <p:spPr>
          <a:xfrm>
            <a:off x="1058760" y="5013360"/>
            <a:ext cx="68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1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угольного микрофона: 1- колеблющаяся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а, 2- зерна угольного порошка, 3- корпус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149400" y="260280"/>
            <a:ext cx="8713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ющего на микрофон, в электрическую энергию происходит на принципе использования пружинной мембраны, колеблющейся под влиянием энергии звуко­вых волн, которая вызывает изменение тока, протекающего в цепи микрофона в такт с воздействующими на эту мембрану волна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ий микрофон (рис. 2.13) действует на принципе возникновения электродвижущей силы в катушке, перемещающейся в магнитном поле. Катушка соединена с колеблющейся мембраной, а магнитное поле создается постоянным магнито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ьный микрофон (рис. 2.14) применяется, в частности, в те­лефонных трубках. Колеблющаяся в нем мембрана изменяет элек­трическое сопротивление угольного порошка, прижимаемого мем­браной, что в свою очередь вызывает изменение тока, протекающего через порошок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костный микрофон работает на принципе использования ко­леблющейся мембраны в качестве одной из обкладок конденсатора. Колебания мембраны изменяют емкость, что в свою очередь вызывает изменение падения напряжения на резисторе, включенном в цепь микрофон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и другие типы микрофонов. Они отличаются кон­струкцией и параметрами, такими как чувствительность (точнее эффективность), полоса акустических частот, выходное сопротивле­ние источника сигнала, направленные свойства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755640" y="1197000"/>
            <a:ext cx="741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принципе работает громкоговоритель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висит от типа громкоговорителя. В случае динамическо­го громкоговорителя (рис. 2.15) электрический ток на акустических частотах, протекающий через обмотку катушки, размещенный в по­ле постоянного - магнита или электромагнита, вызывает колебания этой катушки. Катушка соединена конусообразной мембраной (чаще всего из бумажной массы). Колебания мембраны вызывают в свою очередь возникновение звуковых вол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также другие типы громкоговорителей. Важными параметрами громкоговорителя являются: допустимая акустиче­ская-мощность, КПД, сопротивление громкоговорителя как нагруз­ки схемы, управляющей громкоговорите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7035840" cy="36716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1"/>
          <p:cNvSpPr/>
          <p:nvPr/>
        </p:nvSpPr>
        <p:spPr>
          <a:xfrm>
            <a:off x="1203480" y="4869000"/>
            <a:ext cx="703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15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рощенная конструкция ди­намического громкоговорителя: 1 — колеблющаяся мембрана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о­леблющаяся катушка; 3 — постоянный магнит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двеска мембран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324000" y="260280"/>
            <a:ext cx="8569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квенно-цифровом коде обозначения кратности используются буквы. Для резисторов применяют следующие обозначения кратности: 1 — букв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,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, а для конденсаторов: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µ. Буквы занимают место занятой десятичного знака в номинальном значении. Например, 5,9 Ом — обозначение 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9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9 Ом — 5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,5 кОм —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59 кОм —5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,5 МОм —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а также 1,5пФ — 1р5,  33,2 пФ — 33р2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о-цифровая маркировка резисторов и конденсаторов в СССР со­стоит из последовательно расположенных цифр, указывающих номинальное сопротивление (емкость), буквы, обозначающей единицу измерения (крат­ность) сопротивления при емкости и показывающей положение запятой десятичной дроби, и буквы, обозначающей допустимое отклонение от номинального значения. Для резисторов приняты следующие обозначения кратности номинального сопротивления: Е — омы, К — килоомы, М — мегомы, Г — гигаомы, Т — тераомы, а для номинальной емкости: П — пикофарады, Н — нанофарады, М — микрофарады. Кодированные обозначения  допускаемого от­клонения сопротивления и емкости приведены в табл. 2.5. Например, резисто­ры с сопротивлением 68 Ом и 1,5 кОм и допустимым отклонением ±2% име­ют соответственно маркировку 68ЕЛ и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5Л, а емкость 1,5 мкф с допусти­мым отклонением ±20% сокращение обозначается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. ре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286000" y="1305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е воспроизведение всего диапазона акустических частот одним громкоговорителем при современном уровне техники оказы­вается невозможным, а поэтому в устройствах высококачественного воспроизведения применяют комплекты громкоговорителей, содер­жащие подобранные соответствующим образом громкоговорители для низких и высоких частот. Обычно громкоговорители, хорошо воспроизводящие низкие частоты, значительно больше по размерам, чем громкоговорители для воспроизведения высоких часто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08000" y="333360"/>
            <a:ext cx="8856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принципе работают преобразователи изображения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тель, превращающий оптическое изображение в электрический сигнал и применяемый в телевизионной камере, ра­ботает на принципе использования явления фотоэмиссии или фото­проводимост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м случае в передающей трубке, называемой видиконом, оптическое изображение, проектируемое объективом на пластин­ку со слоем фоторезистора, изменяет сопротивление в различных ее местах в зависимости от интенсивности света, падающего в данное место. Увеличение интенсивности света вызывает убывание сопро­тивления. При проектировании изображения на пластинке возника­ет определенное распределение потенциала, зависящее от распреде­ления света и теней в проецируемом оптическом изображении. В трубке имеется электронный луч, который направлен на пластинку и перемещается по ней по определенному закону. Перемещаясь, луч попадает на точки с разным потенциалом, что вызывает проте­кание через пластину тока, значение которого в каждый момент за­висит от сопротивления в данной точке, т. е. от количества света, падающего на точку. Таким образом, получают ток, изменяющийся в зависимости от распределения светлых и темных точек простран­ст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е электрического сигнала в оптическое изобра­жение происходит в приемных трубках, называемых кинескопами. Принцип действия кинескопа тот же, что и осциллографических тру­бок. Электронный луч воздействует на экран, покрытый материалом, светящимся под его воздействием. Интенсивность свечения зависит от тока луча, который в свою очередь зависит в каждый момент от мгновенного значения управляющего трубкой сигнала, полученного от передающей труб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250920" y="395280"/>
            <a:ext cx="8642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электронные цепи и схемы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мбинации, образующиеся в результате соединения элек­трических элементов. В общем случае определение «цепь» применяет­ся по «отношению» к простым комбинациям элементов, а определение «схема» — к более сложным, однако такое деление строго и последо­вательно не соблюдаетс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и и схемы делятся на разные группы в зависимости от прин­ципа действия, функции, технологии, свойств и т. п. В дальнейшем мы познакомимся с определением и сущностью цепей и схем, назы­ваемых линейными и нелинейными, активными и пассивными, логи­ческими и цифровыми, резонансными, связанными, печатными, ин­тегральными и д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линейные и пассивные цепи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ные цепи — это цепи, состоящие только из линейных эле­ментов, т. е. таких, для которых зависимость между напряжением и током является линейной. В общем случае линейными элементами не являются транзисторы, лампы, катушки индуктивности, транс­форматоры с сердечником и преобразовател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ке цепи, содержащие нелинейные элементы и называе­мые нелинейными, рассматриваются приближенно как линейные, особенно при работе с малыми уровнями сигнал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ыми цепями называются цепи, не содержащие активных элементов, т. е. элементов, повышающих уровень энергии подво­димого сигнала, таких как, например, транзистор или ламп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2286000" y="75096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интегрирующая цепь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инейная цепь (рис. 2.16, а), используемая для изменения формы подводимого сигнала. Форма выходного сигнала при возбуж­дении такой цепи прямоугольным импульсом представлена на рис. 2.16, б. Скорость нарастания фронта выходного сигнала за­висит от постоянной времени τ 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τ 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м больше по­стоянная времени, тем сильнее форма выходного сигнала отличает­ся от формы входного сигнал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ующую цепь можно рассматривать как фильтр, про­пускающий низкочастотные составляющие сигнала и подавляющий составляющие более высоких частот, т. е. как фильтр нижних ча­сто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"/>
          <p:cNvPicPr/>
          <p:nvPr/>
        </p:nvPicPr>
        <p:blipFill>
          <a:blip r:embed="rId2"/>
          <a:stretch/>
        </p:blipFill>
        <p:spPr>
          <a:xfrm>
            <a:off x="1270080" y="765000"/>
            <a:ext cx="272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" descr=""/>
          <p:cNvPicPr/>
          <p:nvPr/>
        </p:nvPicPr>
        <p:blipFill>
          <a:blip r:embed="rId3"/>
          <a:stretch/>
        </p:blipFill>
        <p:spPr>
          <a:xfrm>
            <a:off x="1270080" y="2852640"/>
            <a:ext cx="272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25" descr=""/>
          <p:cNvPicPr/>
          <p:nvPr/>
        </p:nvPicPr>
        <p:blipFill>
          <a:blip r:embed="rId4"/>
          <a:stretch/>
        </p:blipFill>
        <p:spPr>
          <a:xfrm>
            <a:off x="4643280" y="765000"/>
            <a:ext cx="3673800" cy="38880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"/>
          <p:cNvSpPr/>
          <p:nvPr/>
        </p:nvSpPr>
        <p:spPr>
          <a:xfrm>
            <a:off x="1270080" y="4941720"/>
            <a:ext cx="70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16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ры простых интегриру­ющих цепей (а) и форма импульса (б) на выход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55760" y="112536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ифференцирующая цепь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инейная схема (рис. 2.17,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емая для изменения формы подводимого сигнала. При подаче прямоугольного импульса на выходе цепи получают сигнал, форма которого показана па рис. 2.17, б. Изменение формы сигнала тем больше, чем меньше по­стоянная времени цепи τ 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τ 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ующую цепь можно рассматривать как фильтр, пропускающий высокочастотные составляющие сигнала и подавляю­щий низкочастотные составляющие, т. е. как фильтр верхних частот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3070440" cy="20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755640" y="4508640"/>
          <a:ext cx="7561440" cy="91440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914400">
                <a:tc>
                  <a:txBody>
                    <a:bodyPr lIns="0" rIns="0" tIns="0" bIns="0" anchor="t">
                      <a:noAutofit/>
                    </a:bodyPr>
                    <a:p>
                      <a:pPr marL="50760" indent="30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. 2.17 Примеры простых дифференцирующих цепей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форма импуль­са (б) на вых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5"/>
          <p:cNvSpPr/>
          <p:nvPr/>
        </p:nvSpPr>
        <p:spPr>
          <a:xfrm>
            <a:off x="5624640" y="1918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262080"/>
            <a:ext cx="87188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456000" cy="38163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3024360" cy="38163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1"/>
          <p:cNvSpPr/>
          <p:nvPr/>
        </p:nvSpPr>
        <p:spPr>
          <a:xfrm>
            <a:off x="1403280" y="501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18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пь с парал­лельным резонансом (а) и зависимость полного сопротивления цепи (б) от частот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122400" y="333360"/>
            <a:ext cx="878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и условия не выполняются, то даже при большом значен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й цепи резонансное сопротивление снижается из-за нагружения цепи со­противлением источника или нагрузки, а резонансная кривая расши­ряется и снижаетс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и с параллельным резонансом находят широкое применение в электронике и радиоэлектронике, в частности в усилителях и ге­нераторах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цепь с последовательным резонансом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цепь, состоящая из катушек индуктивности и конденсатора, соединенных последовательно. Если учесть потери в катушке и конденсаторе (сопротивлен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 такую цепь можно представить 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, показанном на рис. 2.19, а. Полное сопротивление такой цепи зависит от частоты (рис. 2.19, б) и достигает наименьшего значени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частоте собственных колебаний, выражаемой той же фор­мулой, что 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е параллельного резонанса. На частотах, меньших резонансной, сопротивление пени имеет емкостный характер, на больших индуктивный Чем больше добротность цепи, тем меньше сопротивление при резонансе и тем уже кривая изменения сопротивле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68360" y="260280"/>
          <a:ext cx="8496360" cy="6193080"/>
        </p:xfrm>
        <a:graphic>
          <a:graphicData uri="http://schemas.openxmlformats.org/drawingml/2006/table">
            <a:tbl>
              <a:tblPr/>
              <a:tblGrid>
                <a:gridCol w="2387520"/>
                <a:gridCol w="533520"/>
                <a:gridCol w="663480"/>
                <a:gridCol w="797040"/>
                <a:gridCol w="663480"/>
                <a:gridCol w="663480"/>
                <a:gridCol w="663480"/>
                <a:gridCol w="663840"/>
                <a:gridCol w="663480"/>
                <a:gridCol w="797040"/>
              </a:tblGrid>
              <a:tr h="865080">
                <a:tc>
                  <a:txBody>
                    <a:bodyPr lIns="0" rIns="0" tIns="0" bIns="0" anchor="t">
                      <a:noAutofit/>
                    </a:bodyPr>
                    <a:p>
                      <a:pPr marL="50760" indent="30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 а б л и ц а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629000"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устимое от­клонение сопро­тивления и емко­сти от номиналь­ных значений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25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14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302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2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5440" indent="-554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836640"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ированное обо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25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14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302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2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8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622520"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устим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50760" indent="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­клонение емкости от номинальных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50760" indent="-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25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50760" indent="25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14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8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302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2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0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50760" indent="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8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8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239840"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ированное обо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3168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2556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14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-302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2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24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2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2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50760" indent="302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27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2735280" cy="33843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" descr=""/>
          <p:cNvPicPr/>
          <p:nvPr/>
        </p:nvPicPr>
        <p:blipFill>
          <a:blip r:embed="rId3"/>
          <a:stretch/>
        </p:blipFill>
        <p:spPr>
          <a:xfrm>
            <a:off x="5364000" y="549360"/>
            <a:ext cx="2880000" cy="338436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"/>
          <p:cNvSpPr/>
          <p:nvPr/>
        </p:nvSpPr>
        <p:spPr>
          <a:xfrm>
            <a:off x="2013120" y="486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19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пь с последова­тельным резонансом (а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полного сопро­тивления цепи (б) от часто­т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971640" y="476280"/>
            <a:ext cx="75610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частотная характеристика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график или аналитическое выражение, представляющее дли данной цепи или устройства зависимость тока, напряжения или ко­эффициента усиления от частоты подводимого к нему синусоидаль­ного колебания. Частотная характеристика называется иногда пере­даточной характеристикой. Можно рассматривать график изменения фазового угла от частоты, называемой частотной характеристикой фазы или фазовой характеристик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частотных и фазовых характеристик для нескольких цепей показаны на рис. 2.20. Для двух первых цепей приведено из­менение отношения напряжен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аженное в децибелах, а для третьей — изменение тока, протекающего в цепи, в функции частот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линейные искажения цепи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искажения сигнала, возникающие в электронных цепях (линейных и нелинейных), связанные с тем, что синусоидальные сиг­налы с различными частотами передаются с разным затуханием (усилением) и разным отставанием по фазе. В результате этих иска­жений частотная характеристика отличается от линейной плоской характеристики так, как показано на рис. 2.20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539640" y="40464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ширина полосы пропускания цепи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лоса частот, заключенная между граничными частотами и численно равная разности этих частот (рис. 2.21). Граничные ча­стоты — такие частоты, на которых разность ординат на резонансной характеристике относительно отсчетной частоты имеет точно опре­деленное условное значение, равное, например, 3 дБ. Отсчетной ча­стотой для данной цепи может быть средняя (центральная), резо­нансная или какая-нибудь другая частота. Из двух граничных ча­стот частоту, имеющую меньшее значение, называют нижней гра­ничной частотой, а имеющую большее значение — верхней гранич­ной частот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резонансной цепи ширина полосы пропускания тем меньше, чем больше добротность цеп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импульсная характеристика цепи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ульсной характеристикой цепи называется электрический сигнал, получаемый на выходе при возбуждении цепи прямоуголь­ным импульсом большой длительности с очень коротким временем фронта. Такой импульс называется единичным скачком, а сигнал, полученный после возбуждения цепи таким скачком, называется откликом на единичный скачок или ступенчатым откликом. Пример сигнала отклика показан на рис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2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"/>
          <p:cNvPicPr/>
          <p:nvPr/>
        </p:nvPicPr>
        <p:blipFill>
          <a:blip r:embed="rId2"/>
          <a:stretch/>
        </p:blipFill>
        <p:spPr>
          <a:xfrm>
            <a:off x="1319040" y="115920"/>
            <a:ext cx="1872000" cy="14666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" descr=""/>
          <p:cNvPicPr/>
          <p:nvPr/>
        </p:nvPicPr>
        <p:blipFill>
          <a:blip r:embed="rId3"/>
          <a:stretch/>
        </p:blipFill>
        <p:spPr>
          <a:xfrm>
            <a:off x="4795920" y="115920"/>
            <a:ext cx="2519280" cy="17812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" descr=""/>
          <p:cNvPicPr/>
          <p:nvPr/>
        </p:nvPicPr>
        <p:blipFill>
          <a:blip r:embed="rId4"/>
          <a:stretch/>
        </p:blipFill>
        <p:spPr>
          <a:xfrm>
            <a:off x="1403280" y="1897200"/>
            <a:ext cx="1873440" cy="16192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" descr=""/>
          <p:cNvPicPr/>
          <p:nvPr/>
        </p:nvPicPr>
        <p:blipFill>
          <a:blip r:embed="rId5"/>
          <a:stretch/>
        </p:blipFill>
        <p:spPr>
          <a:xfrm>
            <a:off x="4784760" y="1897200"/>
            <a:ext cx="2519280" cy="1942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6"/>
          <a:stretch/>
        </p:blipFill>
        <p:spPr>
          <a:xfrm>
            <a:off x="1390680" y="3840120"/>
            <a:ext cx="1800360" cy="14810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" descr=""/>
          <p:cNvPicPr/>
          <p:nvPr/>
        </p:nvPicPr>
        <p:blipFill>
          <a:blip r:embed="rId7"/>
          <a:stretch/>
        </p:blipFill>
        <p:spPr>
          <a:xfrm>
            <a:off x="4784760" y="3840120"/>
            <a:ext cx="251928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"/>
          <p:cNvGraphicFramePr/>
          <p:nvPr/>
        </p:nvGraphicFramePr>
        <p:xfrm>
          <a:off x="250920" y="558324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14400">
                <a:tc>
                  <a:txBody>
                    <a:bodyPr lIns="0" rIns="0" tIns="0" bIns="0" anchor="t">
                      <a:noAutofit/>
                    </a:bodyPr>
                    <a:p>
                      <a:pPr marL="50760" indent="308160"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. 2 20. Частотные и фазовые характеристики диф­ференцирующей (а), интегрирующей (б) цепей и цепи с параллельным резонансом (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28" descr=""/>
          <p:cNvPicPr/>
          <p:nvPr/>
        </p:nvPicPr>
        <p:blipFill>
          <a:blip r:embed="rId2"/>
          <a:stretch/>
        </p:blipFill>
        <p:spPr>
          <a:xfrm>
            <a:off x="579600" y="549360"/>
            <a:ext cx="8169120" cy="427680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1"/>
          <p:cNvSpPr/>
          <p:nvPr/>
        </p:nvSpPr>
        <p:spPr>
          <a:xfrm>
            <a:off x="2286000" y="53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2.2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ение ширины полосы цеп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2286000" y="213660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. рис. 1.27). Между частотной характеристикой и откликом су­ществует взаимосвязь, однако математически она достаточно слож­на. В общем случае можно утверждать, что чем больше ширина поло­сы пропускания данной цепи, тем форма отклика меньше отличается от формы возбуждающего сигнала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3"/>
          <p:cNvSpPr/>
          <p:nvPr/>
        </p:nvSpPr>
        <p:spPr>
          <a:xfrm>
            <a:off x="971640" y="83664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Д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иод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д — простой электронный прибор с двумя электродами, имеющий несимметричную характеристику выходного тока, проте­кающего через него и зависящего от входного напряжения (ампли­туды и полярности) (рис. 3.1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1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2232000" cy="33130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" descr=""/>
          <p:cNvPicPr/>
          <p:nvPr/>
        </p:nvPicPr>
        <p:blipFill>
          <a:blip r:embed="rId3"/>
          <a:stretch/>
        </p:blipFill>
        <p:spPr>
          <a:xfrm>
            <a:off x="3203640" y="907920"/>
            <a:ext cx="2716200" cy="331308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1" descr=""/>
          <p:cNvPicPr/>
          <p:nvPr/>
        </p:nvPicPr>
        <p:blipFill>
          <a:blip r:embed="rId4"/>
          <a:stretch/>
        </p:blipFill>
        <p:spPr>
          <a:xfrm>
            <a:off x="6300720" y="907920"/>
            <a:ext cx="2519280" cy="33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395280" y="5300640"/>
          <a:ext cx="8209080" cy="91440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914400">
                <a:tc>
                  <a:txBody>
                    <a:bodyPr lIns="0" rIns="0" tIns="0" bIns="0" anchor="t">
                      <a:noAutofit/>
                    </a:bodyPr>
                    <a:p>
                      <a:pPr marL="50760" indent="308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. 3.1. Условные графические обозначения полупроводникового (а), вакуумного (б) диодов и вольт амперная характеристика диода (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5"/>
          <p:cNvSpPr/>
          <p:nvPr/>
        </p:nvSpPr>
        <p:spPr>
          <a:xfrm>
            <a:off x="5829480" y="1918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41200" y="981000"/>
            <a:ext cx="8869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характеристика позволяе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диод во многих электронных устройствах в качестве эле­мента, который легко пропускает ток в одном направлении и почти не пропускает в противоположном, в частности для выпрямления переменных и детектирования модулированных колебаний и т. п. Различают полупроводниковые и ламповые диоды. Полупроводнико­вый диод работает на принципе использования свойств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­да, возникающего при соединении полупроводников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р-типо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лоскостной диод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ной диод (или иначе диод 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ом) — полу­проводниковый прибор, образованны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ом с двумя ме­таллическими контактами (выводами), присоединенными 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ям (рис. 3.2, а) и хорошо проводящими электрический то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мические контакты). Контакты выводятся наружу из корпуса дио­да и называются анодом и катодом (рис. 3.2, б). Графическое изобра­жение полупроводникового диода и способы обозначения катода показаны на рис. 3.2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2305080" cy="136692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1" descr=""/>
          <p:cNvPicPr/>
          <p:nvPr/>
        </p:nvPicPr>
        <p:blipFill>
          <a:blip r:embed="rId3"/>
          <a:stretch/>
        </p:blipFill>
        <p:spPr>
          <a:xfrm>
            <a:off x="3313080" y="549360"/>
            <a:ext cx="1906560" cy="13669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1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2232000" cy="136692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1"/>
          <p:cNvSpPr/>
          <p:nvPr/>
        </p:nvSpPr>
        <p:spPr>
          <a:xfrm>
            <a:off x="969840" y="234936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)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б)                                          в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1258920" y="4365720"/>
            <a:ext cx="60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3.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ические изображения д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а диода (а), его выводов (б) и других полупроводниковых диодов (в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324000" y="333360"/>
            <a:ext cx="871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сказать о катушке индуктивности как элементе схемы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ушка индуктивности является элементом, вносящим в цепь определенную постоянную или регулируемую индуктивность. Ка­тушку индуктивности часто выполняют навивкой проволоки на кор­пус, сделанный из изолятора. Навивка может быть одно- или много­слойной. Катушки бывают воздушными (бессердечниковыми) либо с магнитным сердечником. Катушки индуктивности (рис. 2.8) в ос­новном характеризуются следующими параметрами: индуктивно­стью и добротност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единицей индуктивности является генри [Гн]. Ча­ще используются в тысячу раз меньшая единица, называемая миллигенри [мГн], и в миллион раз меньшая единица — микрогенри [мкГн]. Индуктивность катушки возрастает с увеличением ее разме­ров и числа витков. Воздушные катушки имеют индуктивность от 1 Гн до нескольких десятков миллигенри. Большие значения ин­дуктивности (даже несколько тысяч генри) получают, когда катушки индуктивности выполняют на ферромагнитных стержнях. Регули­ровка индуктивности чаще всего выполняется перемещением сер­дечника относительно навивки (например, путем вворачивания или выворачивания сердечника отверткой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301680" y="40464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явления происходят 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е без смещения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проводники p и n, образующие переход, отличаются типом основных носителей и их концентрацией. В области р-типа акцеп­торные примеси увеличивают концентрацию дырок, а в област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ипа донорные примеси обеспечивают преимущественную концен­трацию электронов (рис. 3.3). Соединение полупроводников обоих типов с разной концентрацией вызывает протекание (диффузию) ос­новных носителей через переход: дырки из р-области переходят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асть, а электроны и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асти диффундируют в р-область. На большом расстоянии от перехода происходит рекомбинация (повторное соединение) дырок и электронов, в то же время вблизи перехода в полупроводнике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наблюдается избыток положи­тельных зарядов, образованных неподвижными положительными ионами доноров, а в полупроводнике р-типа — избыток отрицатель­ных зарядов, образованных неподвижными отрицательными иона­ми акцепторов. В результате вблизи перехода возникает пространст­венный заряд ионов, создающий электрическое поле на переходе и вызывающий появление потенциального барьера, который пре­пятствует дальнейшему протеканию основных носителей после до­стижения состояния равновесия. При этом состоян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асть за­ряжена положительно относительно р-области. Существующий в переходе запирающий слой делает невозможным протекание основных носителей заряда, однако не препятствует протеканию через переход в противоположном направлении неосновных носителей, т. е дырок и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электронов из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аст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1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2592360" cy="165744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1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2592360" cy="16570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1" descr=""/>
          <p:cNvPicPr/>
          <p:nvPr/>
        </p:nvPicPr>
        <p:blipFill>
          <a:blip r:embed="rId4"/>
          <a:stretch/>
        </p:blipFill>
        <p:spPr>
          <a:xfrm>
            <a:off x="900000" y="3967200"/>
            <a:ext cx="2592360" cy="144144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1" descr=""/>
          <p:cNvPicPr/>
          <p:nvPr/>
        </p:nvPicPr>
        <p:blipFill>
          <a:blip r:embed="rId5"/>
          <a:stretch/>
        </p:blipFill>
        <p:spPr>
          <a:xfrm>
            <a:off x="5148360" y="47628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" descr=""/>
          <p:cNvPicPr/>
          <p:nvPr/>
        </p:nvPicPr>
        <p:blipFill>
          <a:blip r:embed="rId6"/>
          <a:stretch/>
        </p:blipFill>
        <p:spPr>
          <a:xfrm>
            <a:off x="5148360" y="2852640"/>
            <a:ext cx="2376360" cy="194472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1"/>
          <p:cNvSpPr/>
          <p:nvPr/>
        </p:nvSpPr>
        <p:spPr>
          <a:xfrm>
            <a:off x="8038440" y="17384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Прямоугольник 2"/>
          <p:cNvSpPr/>
          <p:nvPr/>
        </p:nvSpPr>
        <p:spPr>
          <a:xfrm>
            <a:off x="7975800" y="3780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д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285840" y="5408640"/>
            <a:ext cx="87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3.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ения 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е;а — начальное состояние р-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лоев; б — распределение зарядов в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е перед установлением равновесного состояния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распре­деление объемных заряд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е в равновесном состоянии; г — распределение потенциала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направления движения неосновных носителей через перехо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108000" y="0"/>
            <a:ext cx="9036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явления происходят 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е при подаче смещения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у можно подвести внешнее напряжение от источ­ника постоянного тока. В результате получают переход со смеще­нием. Имеются две возможности смещения, которые зависят от по­лярности подключения источника к переходу. На рис. 3.4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ан переход, смещенный в проводящем направлении. В этом случае ис­точник действует таким образом, что положительный полюс «вытя­гивает» электроны из полупроводника р-типа во внешнюю цепь и «отталкивает» дырки, тогда как отрицательный полюс поставляет электроны в полупроводни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типа и притягивает дырки. В связи с этим в полупроводнике происходит перемещение (диффузия) ос­новных носителей; дырок из р-области 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и электронов и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в р-область. Ток, протекающий в цепи в результате диф­фузии основных носителей, называют диффузионным током. Следо­вательно, действие внешнего источника таково, что в результате уве­личения числа основных носителей вблизи перехода оно нейтрали­зует пространственный заряд в запирающем слое, т. е. уменьшает ширину этого слоя и снижает потенциальный барьер, который до подключения источника препятствовал протеканию основных носителей заряда в полупроводнике после достижения равновесного состояния. Уменьшение потенциального барьера приводит к даль­нейшему росту числа основных носителей, диффундирующих через переход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движения основных носителей 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е существует также перемещение неосновных носителей в противо­положном направлении. Ток, протекающий в цепи в результате дви­жения неосновных носителей заряда, называют обратным током (или тепловым). При смещении в проводящем направлении диффузион­ный ток значительно больше, чем обратны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ключении источника противоположной полярности (рис. 3.4,6) переход смещается в обратном направлени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1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1" descr=""/>
          <p:cNvPicPr/>
          <p:nvPr/>
        </p:nvPicPr>
        <p:blipFill>
          <a:blip r:embed="rId3"/>
          <a:stretch/>
        </p:blipFill>
        <p:spPr>
          <a:xfrm>
            <a:off x="5364000" y="1052640"/>
            <a:ext cx="28800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1168560" y="5516640"/>
          <a:ext cx="6400800" cy="91440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914400">
                <a:tc>
                  <a:txBody>
                    <a:bodyPr lIns="0" rIns="0" tIns="0" bIns="0" anchor="t">
                      <a:noAutofit/>
                    </a:bodyPr>
                    <a:p>
                      <a:pPr marL="50760" indent="30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. 3.4. р-п переход, смещенный в прямом (а) и обратном (б) направле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308" name="Rectangle 4"/>
          <p:cNvSpPr/>
          <p:nvPr/>
        </p:nvSpPr>
        <p:spPr>
          <a:xfrm>
            <a:off x="5624640" y="2033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1"/>
          <p:cNvSpPr/>
          <p:nvPr/>
        </p:nvSpPr>
        <p:spPr>
          <a:xfrm>
            <a:off x="2050920" y="1197000"/>
            <a:ext cx="4762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 дырки, находящиеся в области л-типа, движутся в направлении отрицательного полюса батареи через полупроводни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, а электроны из полупроводник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— в направлении положитель­ного полюса батареи через полупроводник я-типа. Это движение неосновных носителей. Такое смещение вызывает расширение за­пирающего слоя и повышение потенциального барьера для основных носителей. При такой ситуации протекание основных носителей ста­новится полностью невозможным, и во внешней цепи протекает лишь относительно малый обратный ток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1"/>
          <p:cNvSpPr/>
          <p:nvPr/>
        </p:nvSpPr>
        <p:spPr>
          <a:xfrm>
            <a:off x="0" y="692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свойства плоскостного диода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плоскостного (полупроводникового) диода определяют­ся явлениями, происходящими 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е. На рис. 3.5 показа­на характеристика типичного плоскостного диода, представляющая зависимость постоянного тока, протекающего через диод, от постоян­ного напряжения, подводимого к диоду. Для малых напряжений в проводящем направлении ток равен нулю. Когда напряжение тако­во, что преодолевается потенциальный барьер в переходе, ток начи­нает возрастать, сначала незначительно, а затем почти линейно. Напряжение, необходимое для преодоления потенциального барье­ра (пороговое значение), составляет около 0,2 для германиевых и 0,7 В для кремниевых диодов. При отрицательных напряжениях, смещающих диод в обратном направлении, существует относительно небольшой обратный ток, возрастающий с ростом температуры. Этот рост особенно велик для кремниевых диодов, однако обратный ток для германиевых диодов значительно больше. Обратные токи для типовых плоскостных диодов лежат обычно в пределах от микроам­пер до пикоампер, в то же время токи, протекающие в прямом направлении при напряжении, не превышающем нескольких (вольт, составляют от нескольких миллиампер до нескольких ампе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539640" y="549360"/>
            <a:ext cx="763272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вольт-амперной характеристики параметры диода опре­деляют также указанием сопротивления в рабочей точке. Сопротив­ление диода в очень большой степени зависит от выбора рабочей точ­ки, поскольку в общем зависимость тока от напряжения нелинейна. Сопротивление полупроводникового диода в прямом направлении обычно лежит в интервале от нескольких десятков до нескольких ом, а в обратном направлении до­стигает нескольких сотен килоом и боле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диода в рабо­чей точке называется статичес­ким сопротивлением или сопро­тивлением по постоянному току и определяется как отношение на­пряжения на аноде диода к току, протекающему через диод в этой точке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многих при­менениях, например при подве­дении переменного напряжения к диоду, работающему в опреде­ленной рабочей точке, важно определить сопротивление диода, указывающее ход характеристики вблизи рабочей точки. В связи с этим вводится понятие динами­ческого сопротивления (или дифференциального), определяемого наклоном касательной к характеристике диода в рабочей точке. Наклон определяется как отношение приращений напряжения и тока вблизи этой точк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2050920" y="476280"/>
            <a:ext cx="45370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826920" y="4149720"/>
          <a:ext cx="6769440" cy="1809720"/>
        </p:xfrm>
        <a:graphic>
          <a:graphicData uri="http://schemas.openxmlformats.org/drawingml/2006/table">
            <a:tbl>
              <a:tblPr/>
              <a:tblGrid>
                <a:gridCol w="6769440"/>
              </a:tblGrid>
              <a:tr h="1809720">
                <a:tc>
                  <a:txBody>
                    <a:bodyPr lIns="105480" rIns="105480" tIns="128160" bIns="128160" anchor="t">
                      <a:noAutofit/>
                    </a:bodyPr>
                    <a:p>
                      <a:pPr marL="50760" indent="308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. 3.5. Вольт-амперная характеристика плоскостного д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105480" marR="105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1116000" y="1197000"/>
            <a:ext cx="6985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точечный диод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лупроводниковый диод, в котором вместо плоской кон­струкции используется конструкция, состоящая из пластины полу­проводника тип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щей один электрод, и метал­лического проводника в виде острия, являющегося другим электро­дом. При сплавлении острия с пластинкой образуется микропереход. Характеристика точечного диода представлена на рис. 3.6. По сравнению с плоскостным диодом падение напряжения на точеч­ном диоде в прямом направлении очень мало (малое сопротивление). Ток в обратном направлении значительно меняется в зависимости от напряжения. Точечные диоды обладают малой межэлектродной ем­костью и часто используются для выпрямления малых токов высокой частот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/>
          <p:cNvSpPr/>
          <p:nvPr/>
        </p:nvSpPr>
        <p:spPr>
          <a:xfrm>
            <a:off x="179280" y="26028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иод Шотки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лоскостной полупроводниковый диод с переходом металл — полупроводник вмест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а. Проводимость диода основы­вается на протекании основных носителей в отличие от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­ходов, в которых ток в проводящем направлении возникает в связи с движением неосновных носителей заряда. При использовании полу проводника «-типа основными носителями являются электроны, протекающие в слой металла. По сравнению с точечным диодом диод Шотки (рис. 3.7) имеет более крутую характеристику в области ма­лых напряжений в прямом направлении, значительно меньший об­ратный ток, меньший разброс параметров, большую надежность и высокую устойчивость к ударам, а также меньшее сопротивление в прямом направлении, но несколько большую паразитную емкость. Кроме того, диод Шотки обладает малой инерционностью, что де­лает его пригодным для работы в качестве переключателя и в диапа­зоне высоких частот. Малая инерционность является следствие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, что накопленный в переходе металл—полупроводник заряд очень мал по сравнению с зарядом, который накапливается в пло­скостном диоде с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-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ходом в режиме проводим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ды Шотки часто применяют в детекторах и смесителях в диапазоне частот вплоть до 2000 ГГц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100160" y="207720"/>
            <a:ext cx="6985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0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а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б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в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Рисунок 17" descr=""/>
          <p:cNvPicPr/>
          <p:nvPr/>
        </p:nvPicPr>
        <p:blipFill>
          <a:blip r:embed="rId2"/>
          <a:stretch/>
        </p:blipFill>
        <p:spPr>
          <a:xfrm>
            <a:off x="1100160" y="912960"/>
            <a:ext cx="698508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50760" y="1285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1100160" y="552132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8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ическое изображение катушек индуктивности с постоян­ной (а), переменной (б) индуктив­ностью и с ферритовым сердечни­ком (в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1" descr=""/>
          <p:cNvPicPr/>
          <p:nvPr/>
        </p:nvPicPr>
        <p:blipFill>
          <a:blip r:embed="rId2"/>
          <a:stretch/>
        </p:blipFill>
        <p:spPr>
          <a:xfrm>
            <a:off x="2268360" y="476280"/>
            <a:ext cx="4607280" cy="374472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"/>
          <p:cNvSpPr/>
          <p:nvPr/>
        </p:nvSpPr>
        <p:spPr>
          <a:xfrm>
            <a:off x="755640" y="5445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3.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-амперная характеристика точечного диод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"/>
          <p:cNvPicPr/>
          <p:nvPr/>
        </p:nvPicPr>
        <p:blipFill>
          <a:blip r:embed="rId2"/>
          <a:stretch/>
        </p:blipFill>
        <p:spPr>
          <a:xfrm>
            <a:off x="1763640" y="438120"/>
            <a:ext cx="4680000" cy="342252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1"/>
          <p:cNvSpPr/>
          <p:nvPr/>
        </p:nvSpPr>
        <p:spPr>
          <a:xfrm>
            <a:off x="250920" y="5300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3.7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-амперные характеристи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да Шотки (кривая 1)                                                                       и точечного диода (кривая 2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2286000" y="61272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разница в свойствах плоскостного и точечного диодов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в свойствах германиевых и кремниевых плоскостных диодов и точечных диодов непосредственно вытекает из сравнения вида типичных вольт-амперных характеристик, приведенных на рис. 3.8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идеальный диод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ым диодом называют обычно диод с характеристикой, представленной на рис. 3.9. Резкий излом характеристики, состоя­щей из двух прямых отрезков, наблюдается при напряжении, рав­ном нулю. С точки зрения эквивалентной схемы такой диод представ­ляется нулевым сопротивлением в прямом направлении и бесконеч­но большим сопротивлением в обратном направлении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826920" y="1166760"/>
            <a:ext cx="72741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индуктивности катушки обладают некоторой емкостью зависящей от распределения навивки, и некоторым активным со­противлением (рис. 2.9), отражающим потери энергии в катушке (в навивке, корпусе, сердечнике). Сопротивление потерь увеличива­ется при росте частот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тность катушки определяется как отношение индуктив­ного сопротивления к сопротивлению потерь (последовательному)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f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тность изменяется в зависимости от частоты, габаритных размеров и формы катушки, материала корпу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6697800" cy="43196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1890720" y="5240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9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вивалентная схема реальной катушки и индуктивност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2"/>
          <a:stretch/>
        </p:blipFill>
        <p:spPr>
          <a:xfrm>
            <a:off x="755640" y="263520"/>
            <a:ext cx="7777080" cy="22287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7777080" cy="2089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"/>
          <p:cNvSpPr/>
          <p:nvPr/>
        </p:nvSpPr>
        <p:spPr>
          <a:xfrm>
            <a:off x="1258920" y="537372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10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ение результирующей индуктивности при последовательном (а) и параллельном (б) соединении ка­туше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539640" y="1268280"/>
            <a:ext cx="799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ушки, материала корпуса, типа навиваемого провода, свойств сердечника. Добротность катушек составляет 50— 200. Большой добротностью в диапазоне высоких частот обладают воздушные катушки, навитые на керамический корпус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ыми элементами являются также дроссели и трансфор­маторы. Дросселями называются катушки, задача которых создать в цепи большое сопротивление для переменного тока, чтобы пода­вить токи определенных частот. В частности, дроссели применяются в фильтрах источников пит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результирующего значения индуктивности при последовательном и параллельном соединении катушек пояснено на рис. 2.10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18:52Z</dcterms:created>
  <dc:creator>OZOR</dc:creator>
  <dc:description/>
  <dc:language>en-US</dc:language>
  <cp:lastModifiedBy>student</cp:lastModifiedBy>
  <dcterms:modified xsi:type="dcterms:W3CDTF">2014-05-20T07:55:41Z</dcterms:modified>
  <cp:revision>18</cp:revision>
  <dc:subject/>
  <dc:title>Презентация PowerPoint</dc:title>
</cp:coreProperties>
</file>